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144A5-1A09-487E-8C80-792248245C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B18B66-C27E-45F4-B72D-37511A7CD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2C771-56A7-4256-9675-C06E30D87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717F4-1BBA-4A0A-A9D8-95A510462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5D87-BBFC-4C60-9111-14DD5000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EB5-7D8C-4DA9-8DB2-ADF1FCEF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9983-9A4B-480D-8CC8-0FCA4FA9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A4D-3E38-4CA7-AC99-B3D2445C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B20-6482-4FE1-AD8D-ADBEA9D9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613-7829-44AA-A68E-D58E4EF5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8AE-D57A-42B7-A293-0639E18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558-5753-494E-9356-98EC542C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817-769F-4939-B8E8-F3B42B4F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A89-B394-41C8-ADBD-7A3949C1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9EB-F469-4508-B8E9-9D4B6A13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D43-1626-44DA-83B6-FE49244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2D116-EF75-4BE3-A96B-DE10741ADE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BAD17-BB46-4171-9C6F-F3AD211CE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addo People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Cam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4" descr="cvr_caddo_mounds.jpg"/>
          <p:cNvPicPr/>
          <p:nvPr/>
        </p:nvPicPr>
        <p:blipFill>
          <a:blip r:embed="rId1"/>
          <a:stretch/>
        </p:blipFill>
        <p:spPr>
          <a:xfrm>
            <a:off x="2705040" y="3886200"/>
            <a:ext cx="3657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, beans, squash, deer, rabbits, and turk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did for daily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nting, making weapons, pottery, planting, and building house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perttula02-sm.jpg"/>
          <p:cNvPicPr/>
          <p:nvPr/>
        </p:nvPicPr>
        <p:blipFill>
          <a:blip r:embed="rId1"/>
          <a:stretch/>
        </p:blipFill>
        <p:spPr>
          <a:xfrm>
            <a:off x="857160" y="3078000"/>
            <a:ext cx="270504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building-lg.jpg"/>
          <p:cNvPicPr/>
          <p:nvPr/>
        </p:nvPicPr>
        <p:blipFill>
          <a:blip r:embed="rId2"/>
          <a:stretch/>
        </p:blipFill>
        <p:spPr>
          <a:xfrm>
            <a:off x="4127400" y="2724120"/>
            <a:ext cx="406404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celebrat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celebrate when people die or are bor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2" descr="Caddo Burial.jpg"/>
          <p:cNvPicPr/>
          <p:nvPr/>
        </p:nvPicPr>
        <p:blipFill>
          <a:blip r:embed="rId1"/>
          <a:stretch/>
        </p:blipFill>
        <p:spPr>
          <a:xfrm>
            <a:off x="2152800" y="2647800"/>
            <a:ext cx="506700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worship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ddo people worship a f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present the sun god they always keep a fire burning but every fall they put all the fires out and make a fresh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e Caddo people are known 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ddo people are known for their artistic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moore1912i-sm.jpg"/>
          <p:cNvPicPr/>
          <p:nvPr/>
        </p:nvPicPr>
        <p:blipFill>
          <a:blip r:embed="rId1"/>
          <a:stretch/>
        </p:blipFill>
        <p:spPr>
          <a:xfrm>
            <a:off x="2360520" y="2157480"/>
            <a:ext cx="31640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ontributions the Caddo people ma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gave us beautiful jewelry that was not gold or silver  because it was not available in east Tex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happened to the Caddo people when settlers arri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French came the Caddo tribe was friend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brought sickness to the Caddo t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Louisiania was bought by the United States in 1835 the Caddos peacefully moved into Tex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exas became part of the Unites States the Caddos were taken from the Brazos River to Oklahoma by Robert Neighbours to escape de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were given a tract of land in Oklah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05 the remaining 535 became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4:15:50Z</dcterms:created>
  <dc:creator>Camden McFarland</dc:creator>
  <dc:description/>
  <dc:language>en-US</dc:language>
  <cp:lastModifiedBy>McFarland, Dwain</cp:lastModifiedBy>
  <dcterms:modified xsi:type="dcterms:W3CDTF">2011-10-21T04:46:06Z</dcterms:modified>
  <cp:revision>39</cp:revision>
  <dc:subject/>
  <dc:title>The Caddo people </dc:title>
</cp:coreProperties>
</file>